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A1E8-8856-4D7F-AE6D-099D856A1F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8475-98C2-4E5D-AD9F-5D8431DE6D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40FB-DD66-447F-9AC0-7091AA7861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67E6-77C4-4CAF-B46B-2A97E8C95A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BDB3-3583-443A-AF22-DD62F8C362F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DC53-EAE3-4161-B460-BB2510E7EB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7CC5-A4AF-4908-BCDB-B8432DD1AD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19D7-F835-4466-99CC-AEE01872C8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746D-CC35-49A9-8032-3E806CD62B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0007-E04D-42D0-883D-AB03502632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DA4B-4970-4975-ADEB-DD7F97C2F8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B00A-58F3-4D8F-85D9-7A783982B4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0C10-7CCE-4AF4-9ECA-27682F30A8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D375-8EFF-4EAA-B79C-A7F673F10B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BE59-706D-4B2D-A9A2-09BF126CC6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006F-0395-4CED-8E56-5203A9CFBDD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D349-B314-4C70-83C0-59F6624309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7178-460B-4F35-999A-CD4F847B22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F69F-0E17-4098-AFDE-A450FF85E4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F4CF-3CDF-42C4-9560-79D7ABE480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5FDB-12F8-4A33-B199-C7EC92D01D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246E3-21F7-4BA5-B918-0042D5D4B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C3FD-E6A9-4745-88E8-CAD92C431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7B0B3-5B81-4258-ADD2-379F93A32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D816F-35E9-4DF5-B98F-FBD9DB097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27874-0C29-4DD3-8FEE-7EF59180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5CE08-068E-4294-BF69-4111FC0B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05947-74DD-49AA-A2E1-8D9B484A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6827-DB36-4DC0-869A-677E846D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0D69B-0806-41F8-B143-4B017D14C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EA2E-CF53-4653-A7C4-2061C4C5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EEBA-623D-4EF1-98B7-40FDC38E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1624-BD93-44EF-9517-C99E93709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8853-0CD8-4E6D-BB2C-2F26749DC20E}"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74"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76"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80"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4"/>
          <p:cNvGraphicFramePr/>
          <p:nvPr/>
        </p:nvGraphicFramePr>
        <p:xfrm>
          <a:off x="1981080" y="533520"/>
          <a:ext cx="5486400" cy="5478480"/>
        </p:xfrm>
        <a:graphic>
          <a:graphicData uri="http://schemas.openxmlformats.org/presentationml/2006/ole">
            <p:oleObj r:id="rId1" spid="">
              <p:embed/>
              <p:pic>
                <p:nvPicPr>
                  <p:cNvPr id="86"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70"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5:24:34Z</dcterms:modified>
  <cp:revision>14</cp:revision>
  <dc:subject/>
  <dc:title>Programmes et services  d’emploi  de l’Ontario</dc:title>
</cp:coreProperties>
</file>